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757-78F4-42A0-AA1D-66FA4503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DC-D464-4B6E-BD3B-E29D7AF4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616-617B-4CE9-8E0B-FABCE505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1C0-76C8-4F60-862C-DBA4325A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7CE-FF15-4030-94DA-E893AC35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67-9DB1-4C2E-BF4B-2AC8E79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01F-219B-4A14-BC80-9631388B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AF8-F507-416A-B5FC-45E79F08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214-B6DB-48A5-8975-0DD0532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A5F-C8E8-43DE-A1E4-3BE8509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4C8-B3AA-45DF-B90D-6D5DA79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B31-8995-4E7A-8161-97966CA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2A9-3730-4053-A332-C06063F7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ion – the DETAILED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as a group FILMED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INDIVIDUALLY uploaded onto your wikispace including visual stimuli  (images, final posters/mags clips from trailer) that is specific to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&amp;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ach fina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xamples of real media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 detail how you conform or subvert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er  - link to your trai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xamples – link to real trai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re conventions ( remember the sheet from start of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product conforms to conventions- actually identify the conventions you use of trailers as well as conventions of the film genre (look at repetoire of  ele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al package – how effective is it all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look at how distributors market to different audiences through different posters/mag content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ould include a real example of a film package doing this in the re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ach individual in your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presented as a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o your target audienc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images of your audience mood boards and your brainstorm audienc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your questionnair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ew quotes of audience feedback from seeing your tra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hotoshop, paintshop pro, CS4, premiere, final cut pro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, online polls, you tube, imd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– powerpoint, camera to film, voice recor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JAlois</cp:lastModifiedBy>
  <dcterms:modified xsi:type="dcterms:W3CDTF">2010-03-26T12:26:08Z</dcterms:modified>
  <cp:revision>3</cp:revision>
  <dc:subject/>
  <dc:title>Advanced Portfolio</dc:title>
</cp:coreProperties>
</file>